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65D-A64E-4FB8-8F9D-282505BA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42D-157F-440F-A5A8-2FB935A6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FB0-2CAF-4F3D-91F6-99D0BABB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3F1-3570-4D04-BECC-7866C6D7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F2C7-F0B4-48D7-B151-B026839D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CD6F-BFFA-4764-B901-81F3D32B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89FE-4334-4F31-A13F-E5DF4E58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8931-9CAF-4F76-859D-2A2606F4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453D-0736-4D53-A562-390183DB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28C1-D0EE-40A4-BFE6-30A92238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EADC-243E-43DB-8D79-7C67DF49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4263-232A-4E01-947F-8CEF4595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9B3F-8D35-4E29-A535-CE88C665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24CE-F528-4F68-B557-5EECEBEA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19F2-7A79-4B64-89FC-7810CB22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525C-9AEE-4455-B7CE-9FD74FEC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BDDF-600F-43DA-ACD9-6A71FB64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E73-8C12-4A2A-B7A4-9E33E633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1B90-3835-45C3-BEDE-9E51C227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E60-EE2B-4D9E-8960-CF60133E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AB6-8829-4938-9B66-03447134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7EB-4814-418B-82E1-229CD2AF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C0C-2CF2-4282-9C9A-C1CF936D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004-C662-41CC-B9E3-A53AEF22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D364-3147-417B-A85A-8DB250E4CD9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3A8F-F9BF-4FD7-B1C7-ED3FF65CEC7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63640" y="330120"/>
            <a:ext cx="590724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Romance de Fajardo (fronterizo a. 1466 ó 1477</a:t>
            </a:r>
            <a:r>
              <a:rPr b="0" lang="es-MX" sz="18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Jugando estaba el rey mor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y aun al ajedrez un dí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con aqueste buen fajard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con amor que le tení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Fajardo jugaba Lorc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y el rey moro, Almería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jaque le dio con el roque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el alférez le prendí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A grandes voces dice el moro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-“La villa de Lorca es mía”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Allí  hablara Fajard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bien oiréis lo que decía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-“Calles, calles, señor rey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no toméis la tal porfí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aunque me la ganases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ella no se te daría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caballeros tengo dentr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47840" y="617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7360" y="690480"/>
            <a:ext cx="341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te la defenderían”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Allí hablara rey mor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bien oiréis lo que decía 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-“No juguemos más, Fajard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ni tengamos más porfía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sois tan buen caballer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todo el mundo os temía”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22:25:03Z</dcterms:created>
  <dc:creator> </dc:creator>
  <dc:description/>
  <dc:language>en-US</dc:language>
  <cp:lastModifiedBy> </cp:lastModifiedBy>
  <dcterms:modified xsi:type="dcterms:W3CDTF">2007-09-28T22:44:30Z</dcterms:modified>
  <cp:revision>2</cp:revision>
  <dc:subject/>
  <dc:title>Diapositiva 1</dc:title>
</cp:coreProperties>
</file>